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33C-310E-4DD6-9C0B-062EC8F4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49A-CAA8-4130-80E0-A6108D8B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DB0-606B-4791-B87A-43BBE986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F44-CD7C-450A-976B-831EB778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664-4622-4CDD-9B2B-A7F1CE17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287-916B-4BC5-841B-696FB56F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983-82A6-40DE-8C7F-308717F5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D3F-8A92-434C-9FC8-E43F1EA5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5A3-17C2-4452-A411-AD494C30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3BF-DB26-4FBB-B0B9-4E873340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46A-178D-43BE-AFD9-70F31185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535-7C22-4E7E-8353-AAF4E198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511C-E207-46C2-97C5-561113383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9;&#1072;&#1084;&#1086;&#1083;&#1105;&#1090;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81480"/>
            <a:ext cx="2057400" cy="147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808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810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3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28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90512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9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34290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+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038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657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7-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52578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1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286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1752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5 0.07014 L 0.57083 -0.28541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17 -0.29652 L 0.04583 -0.29652 E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29652 L 0.55417 -0.70763 E">
                                      <p:cBhvr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417 -0.70763 L 0.05417 -0.68541 E">
                                      <p:cBhvr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6743 L 0.2375 -0.51875 E"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583 -0.46319 L 0.5625 -0.04097 E">
                                      <p:cBhvr>
                                        <p:cTn id="2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25 -0.04097 L 0.07083 -0.48541 E">
                                      <p:cBhvr>
                                        <p:cTn id="3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-0.48541 L 0.55417 -0.50764 E">
                                      <p:cBhvr>
                                        <p:cTn id="3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583 -0.55208 L 0.2875 -0.72986 E">
                                      <p:cBhvr>
                                        <p:cTn id="3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084 -0.68542 L 0.52917 -0.29653 E">
                                      <p:cBhvr>
                                        <p:cTn id="4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51:38Z</dcterms:created>
  <dc:creator>Шаповаловы</dc:creator>
  <dc:description/>
  <dc:language>en-US</dc:language>
  <cp:lastModifiedBy>ник</cp:lastModifiedBy>
  <dcterms:modified xsi:type="dcterms:W3CDTF">2011-04-06T18:06:5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